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1D67-22FE-4D57-9CDE-40DF094E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EC7-E89C-4AE9-AFE0-7DC86F2B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72D0-3857-44D0-882E-CF6CE2C8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EA57-7C95-4DE9-B138-DE9B5AE9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5BE7-A569-4A97-9311-749CED70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875E-5F87-45D7-8B8D-DA7E0C9D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8061-2F85-4D8D-AF44-01804FE7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0F9D-A0E7-469E-8590-E2A27C45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CAE4-F908-493A-98FB-EBCFBD43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164C-046F-43E6-AC64-442F3B3C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1F28-45BA-419B-B55E-FC1368FA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C2DB-9CD4-4313-8EA9-AC3DC666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A071-BF3C-4B30-9960-8FD2918A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FD08-4237-46E7-9078-63ECB749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C867-DD42-4D60-89F5-3EFE6CFC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5E21-E517-4A83-A1B3-28011DD5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B472-C6E0-4391-A391-41ED1C7E4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A526-FE42-4A4F-ADB1-DBAFB4EE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4352-41E6-4125-8734-E8C07A00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F7AE-0CD2-4A7B-9B45-2794F030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3640-E06C-43FF-824E-D10987D7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973-9EBC-4396-9714-A8455205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7DEA-93A3-45C1-AC64-A315A15D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560F-A06B-47BC-9104-BD4D845E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FB0E-1270-49CB-9C3E-667C0292F85A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8FE8-A35E-44F0-BB14-4FFCAFFF8DB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8600" spc="-1" strike="noStrike">
                <a:solidFill>
                  <a:srgbClr val="dbf5f9"/>
                </a:solidFill>
                <a:latin typeface="Calibri"/>
                <a:cs typeface="Traditional Arabic"/>
              </a:rPr>
              <a:t>بسم الله الرحمن الرحيم</a:t>
            </a:r>
            <a:endParaRPr b="0" lang="en-US" sz="86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374472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Constantia"/>
              </a:rPr>
              <a:t>Surfaces of body of Pancreas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1-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Constantia"/>
              </a:rPr>
              <a:t>Anterior surface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Related to stomach , separated from it by the lesser sac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2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Inferior surface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Related to duodeno-jejunal flexure, loops of ileum and end of transverse colon (from right to left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8" name="Content Placeholder 4" descr="C:\Documents and Settings\Main\Desktop\2\32.jpg"/>
          <p:cNvPicPr/>
          <p:nvPr/>
        </p:nvPicPr>
        <p:blipFill>
          <a:blip r:embed="rId2"/>
          <a:stretch/>
        </p:blipFill>
        <p:spPr>
          <a:xfrm>
            <a:off x="4067280" y="907920"/>
            <a:ext cx="486396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714240"/>
            <a:ext cx="403848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Body of pancreas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3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Posterior surfac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related to posterior abd. wall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-Aorta and origin of sup. Mesenteric arter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-Splenic and left renal vei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-Left psoas maj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4- Left crus of diaphrag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5- Left kidne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6- Left supra renal glan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7- Left sympathetic chai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0" name="Picture 4" descr="C:\Documents and Settings\Main\Desktop\2\33.jpg"/>
          <p:cNvPicPr/>
          <p:nvPr/>
        </p:nvPicPr>
        <p:blipFill>
          <a:blip r:embed="rId2"/>
          <a:stretch/>
        </p:blipFill>
        <p:spPr>
          <a:xfrm>
            <a:off x="4572000" y="1214280"/>
            <a:ext cx="437184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0920" y="714240"/>
            <a:ext cx="453528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Tail of pancrea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1- It is related to the visceral surface of spleen near its hilu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2- It reaches the hilum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via the lieno-renal ligamen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4433760" y="2565360"/>
            <a:ext cx="471024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3300"/>
                </a:solidFill>
                <a:uFillTx/>
                <a:latin typeface="Calibri"/>
              </a:rPr>
              <a:t>Ducts of pancreas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13840" y="1214280"/>
            <a:ext cx="36370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1-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onstantia"/>
              </a:rPr>
              <a:t>Main pancreatic duct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t drains the upper part of the head, all the body and tail of pancrea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t runs from the tail to the head, then it unite with common bile duct to form ampulla of Vater which opens in the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nstantia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part of duodenum (postero-medial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5" name="Picture 2" descr="C:\Documents and Settings\Main\Desktop\liver\gallbladder1.jpg"/>
          <p:cNvPicPr/>
          <p:nvPr/>
        </p:nvPicPr>
        <p:blipFill>
          <a:blip r:embed="rId2"/>
          <a:stretch/>
        </p:blipFill>
        <p:spPr>
          <a:xfrm>
            <a:off x="3851280" y="1413000"/>
            <a:ext cx="51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4000" y="333360"/>
            <a:ext cx="3095640" cy="61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-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ccessory pancreatic du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drains the uncinate process and lower part of hea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t opens in the 2nd part of duodenum above the ampulla of Vat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C:\Documents and Settings\Main\Desktop\2\31.jpg"/>
          <p:cNvPicPr/>
          <p:nvPr/>
        </p:nvPicPr>
        <p:blipFill>
          <a:blip r:embed="rId2"/>
          <a:stretch/>
        </p:blipFill>
        <p:spPr>
          <a:xfrm>
            <a:off x="3635280" y="1557360"/>
            <a:ext cx="532944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ff00"/>
                </a:solidFill>
                <a:uFillTx/>
                <a:latin typeface="Calibri"/>
              </a:rPr>
              <a:t>Blood supply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9280" y="1125360"/>
            <a:ext cx="3456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3300"/>
                </a:solidFill>
                <a:uFillTx/>
                <a:latin typeface="Constantia"/>
              </a:rPr>
              <a:t>Arterial supply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-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Superior, inferior pancreatico-duodenal arteries: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to the hea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2- Pancreatic branches of splenic artery: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 the rest of pancrea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Venous drainag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o splenic vein and portal vei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0" name="Content Placeholder 4" descr="C:\Users\dell\Desktop\anatomy presentation\untitled.bmp"/>
          <p:cNvPicPr/>
          <p:nvPr/>
        </p:nvPicPr>
        <p:blipFill>
          <a:blip r:embed="rId2"/>
          <a:stretch/>
        </p:blipFill>
        <p:spPr>
          <a:xfrm>
            <a:off x="3492360" y="1844640"/>
            <a:ext cx="5651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00"/>
                </a:solidFill>
                <a:uFillTx/>
                <a:latin typeface="Calibri"/>
              </a:rPr>
              <a:t>lymphatic drainag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- Upper part of head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coeliac lymph nod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- Lower part of head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uperior mesenteric lymph nod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- Rest of pancreas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pancreatico-splenic lymph nod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2"/>
          <a:stretch/>
        </p:blipFill>
        <p:spPr>
          <a:xfrm>
            <a:off x="133200" y="1603440"/>
            <a:ext cx="8529840" cy="27558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285840" y="442908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Brush Script MT"/>
              </a:rPr>
              <a:t>Prof.: Dr. Shawky Tay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785196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00"/>
                </a:solidFill>
                <a:uFillTx/>
                <a:latin typeface="Calibri"/>
              </a:rPr>
              <a:t>Position of pancrea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3840" y="1643040"/>
            <a:ext cx="36435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a combined exocrine, endocrine gland which lies transversely across the posterior abdominal wal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extends from the concavity of the duodenum on the right side to the spleen on the left sid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9" name="Content Placeholder 3" descr="2226HepaticPortalSys_L.jpg"/>
          <p:cNvPicPr/>
          <p:nvPr/>
        </p:nvPicPr>
        <p:blipFill>
          <a:blip r:embed="rId2"/>
          <a:stretch/>
        </p:blipFill>
        <p:spPr>
          <a:xfrm>
            <a:off x="4071960" y="1857240"/>
            <a:ext cx="49291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3300"/>
                </a:solidFill>
                <a:uFillTx/>
                <a:latin typeface="Calibri"/>
              </a:rPr>
              <a:t>Parts of pancrea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5840" y="1643040"/>
            <a:ext cx="328608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- Head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- neck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- Bod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4- Tai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lower part of the head forms a projection called uncinate proces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2" name="Picture 5" descr="C:\Documents and Settings\Main\Desktop\2\34.jpg"/>
          <p:cNvPicPr/>
          <p:nvPr/>
        </p:nvPicPr>
        <p:blipFill>
          <a:blip r:embed="rId2"/>
          <a:stretch/>
        </p:blipFill>
        <p:spPr>
          <a:xfrm>
            <a:off x="4075200" y="2500200"/>
            <a:ext cx="50227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428400"/>
            <a:ext cx="4038480" cy="59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3300"/>
                </a:solidFill>
                <a:uFillTx/>
                <a:latin typeface="Constantia"/>
              </a:rPr>
              <a:t>Borders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1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Superior border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related to splenic arter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2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Anterior border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gives attachment to transverse mesocolon and greater omentu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3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Inferior border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separates the inferior from the posterior surfac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Picture 4" descr="C:\Documents and Settings\Main\Desktop\2\30.jpg"/>
          <p:cNvPicPr/>
          <p:nvPr/>
        </p:nvPicPr>
        <p:blipFill>
          <a:blip r:embed="rId2"/>
          <a:stretch/>
        </p:blipFill>
        <p:spPr>
          <a:xfrm>
            <a:off x="4788000" y="3573360"/>
            <a:ext cx="4105080" cy="3084480"/>
          </a:xfrm>
          <a:prstGeom prst="rect">
            <a:avLst/>
          </a:prstGeom>
          <a:ln w="0">
            <a:noFill/>
          </a:ln>
        </p:spPr>
      </p:pic>
      <p:pic>
        <p:nvPicPr>
          <p:cNvPr id="105" name="Content Placeholder 4" descr="C:\Users\dell\Desktop\anatomy presentation\untitled.bmp"/>
          <p:cNvPicPr/>
          <p:nvPr/>
        </p:nvPicPr>
        <p:blipFill>
          <a:blip r:embed="rId3"/>
          <a:stretch/>
        </p:blipFill>
        <p:spPr>
          <a:xfrm>
            <a:off x="4643280" y="428760"/>
            <a:ext cx="44294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00"/>
                </a:solidFill>
                <a:uFillTx/>
                <a:latin typeface="Calibri"/>
              </a:rPr>
              <a:t>Relations of pancrea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9280" y="1267920"/>
            <a:ext cx="36007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Constantia"/>
              </a:rPr>
              <a:t>Head of pancrea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lies in the concavity of the duodenu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related to the 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s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part of duodenum superiorly, 2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n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part on the right side ( separated from it by sup. &amp; inf. pancreatico -duodenal arteries) and 3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rd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part inferiorl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3924360" y="1484280"/>
            <a:ext cx="49687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404280"/>
            <a:ext cx="324036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Constantia"/>
              </a:rPr>
              <a:t>Head of Pancreas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teriorly , it is related to transverse col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osteriorly , it is related to IVC, renal veins and common bile duc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ncinate process lies between abd. aorta and superior mesenteric vessel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3995640" y="1125360"/>
            <a:ext cx="496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85480" y="499680"/>
            <a:ext cx="3786120" cy="58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Neck of pancrea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Anteriorly: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related to gastro-duodenal juncti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Posteriorly: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related to the formation of portal vein from splenic and superior mesenteric vein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3" name="Content Placeholder 4" descr="C:\Users\dell\Desktop\anatomy presentation\untitled.bmp"/>
          <p:cNvPicPr/>
          <p:nvPr/>
        </p:nvPicPr>
        <p:blipFill>
          <a:blip r:embed="rId2"/>
          <a:stretch/>
        </p:blipFill>
        <p:spPr>
          <a:xfrm>
            <a:off x="4357800" y="3857760"/>
            <a:ext cx="4599000" cy="2817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3"/>
          <a:stretch/>
        </p:blipFill>
        <p:spPr>
          <a:xfrm>
            <a:off x="4616280" y="289080"/>
            <a:ext cx="39880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6840" y="500040"/>
            <a:ext cx="843588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Constantia"/>
              </a:rPr>
              <a:t>Body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It has three surfaces (anterior, posterior and inferior) and three borders (anterior, superior and inferior)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6" name="Picture 4" descr="C:\Documents and Settings\Main\Desktop\2\30.jpg"/>
          <p:cNvPicPr/>
          <p:nvPr/>
        </p:nvPicPr>
        <p:blipFill>
          <a:blip r:embed="rId2"/>
          <a:stretch/>
        </p:blipFill>
        <p:spPr>
          <a:xfrm>
            <a:off x="2411280" y="2421000"/>
            <a:ext cx="583272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6:02:21Z</dcterms:created>
  <dc:creator>Main</dc:creator>
  <dc:description/>
  <dc:language>en-US</dc:language>
  <cp:lastModifiedBy>Prof. Dr. Shawky</cp:lastModifiedBy>
  <dcterms:modified xsi:type="dcterms:W3CDTF">2014-04-18T16:43:39Z</dcterms:modified>
  <cp:revision>49</cp:revision>
  <dc:subject/>
  <dc:title>Pancreas</dc:title>
</cp:coreProperties>
</file>